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8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354-1EF5-409F-9E82-CF97CAA7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581-D695-4C2A-AFED-94A3DF65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3C6A-2A6E-4F6C-817D-6C6D5240B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981-709B-43FA-9FBB-499B6E15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2D6C-B571-469E-AEBB-4FEFFEDF3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67FD-9562-4AC1-9B50-55397B6A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9495-4C4D-4B97-A75F-C0A7C9B1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9226-93BC-4766-8754-9CAC49C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35BA0-87E2-412C-9BCD-EC72BD49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553B-D252-4EE0-85A8-FCD2506C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D3D9-3D22-49E5-80FC-4F584B2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4ED-D688-4D47-B6CB-6D0702A7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01AE-883D-463B-B27A-E8106DF4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6520-A5AD-4A2C-B533-0420CCE9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5FE0-B0E4-49DF-AE08-AB5ECBA0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E1DF-DDF2-417F-9EF2-9787847E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1828-C15F-4E4D-BAAB-7AE641FC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0FB-258A-430B-8417-2107CFE7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B2AE-2922-4560-A5FF-BCEB08AB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464-8929-446F-AE08-B8786A12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D9BC-1074-4CF4-8B56-C5469E5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A2F-0E37-417D-A46B-9E240C7C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275-3B6E-4EB6-8FA6-3140ADAA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9B0-5BF3-436E-9994-B24D1261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C2F-1E03-485B-8EC4-1C89916402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BC0B-7EBE-4D93-9125-859CA8A570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836880"/>
            <a:ext cx="4343400" cy="287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343400" y="3805200"/>
            <a:ext cx="4800600" cy="290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181480" cy="323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257800" y="152280"/>
            <a:ext cx="3886200" cy="3276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24560" y="3124080"/>
            <a:ext cx="709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 Black"/>
              </a:rPr>
              <a:t>Curiozităţi despre mamif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86200" cy="2818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257800" y="0"/>
            <a:ext cx="3708360" cy="35416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96720" y="358128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zentare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tina Tomesc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randomBar dir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236760"/>
            <a:ext cx="4876920" cy="362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60920" y="0"/>
            <a:ext cx="4483080" cy="3192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876920" y="3200400"/>
            <a:ext cx="426708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33640" y="533520"/>
            <a:ext cx="4263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ana ursului polar este al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ă pentru 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jlocul firului de păr din blană este g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şi prin el se reflectă lumina mai mul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ât în zăpadă şi gheaţă .Iarna, bl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ui se colorează în galben .Piel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sului polar este neagr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l poate înota continuu 100 de km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2948040" cy="3886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91320" cy="3848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3827520"/>
            <a:ext cx="4724280" cy="3030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805640" y="4419720"/>
            <a:ext cx="408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emela leu 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ânează mai mult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90 % din ceea ce mănâncă un grup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i ,în timp ce masculul preferă do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ă se odihnească 20 ,21 de ore pe z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ânatul este mai întâi mâncat de leu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oi de femele şi ceea ce rămâ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ănâncă pui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mb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4648320" cy="2934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31840" y="3809880"/>
            <a:ext cx="453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fantul este foart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nalt ,între 3 şi 4,5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ântăreşte 5 000 -7 000 de kg ,mănân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m 225 de kg pe zi şi bea 90 l de ap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 vede foarte bine ,dar urechile şi nas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l ajută .Poate mirosi apa de la 4 k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stanţă şi este singurul animal care nu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ate săr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2511360" cy="3767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2495520"/>
            <a:ext cx="3176640" cy="4362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124080" y="4724280"/>
            <a:ext cx="587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rafa nu poate scoate nici un sunet ,dar aude anum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nete :gu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ţatul ,sforăitul şi behăitul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girafă are acelaşi număr de oase în alcătuire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heletului gâtului ca şi omul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ush dir="l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733840"/>
            <a:ext cx="2971800" cy="4124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72160" y="0"/>
            <a:ext cx="2571840" cy="4094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905120" y="-228600"/>
            <a:ext cx="4267080" cy="4224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89480" y="437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70480" y="4456080"/>
            <a:ext cx="533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liacul este faimos pentru c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ă doarme ziua ş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boară noaptea ,vede în întuneric folosind un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 sunet .Undele sunt atât de fine ,că unele sune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u le aude nici omul .Ele îl fac să ştie şi dacă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sectă se apropie 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iliacul este singurul mamifer care zboar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push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3657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581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3606840"/>
            <a:ext cx="487692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956840" y="4572000"/>
            <a:ext cx="37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gurul nu poate merg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napo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re o săritură mai lungă de 12 m ş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are cu o viteză mai mare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60 km/oră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19240" cy="3981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3962520"/>
            <a:ext cx="4114800" cy="2952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71920" y="1027080"/>
            <a:ext cx="47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grul ar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şi pielea cu dungi ,nu numai blana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ungile au rol de camuflaj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356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6080" cy="3657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3733920"/>
            <a:ext cx="3886200" cy="31240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15280" y="4572000"/>
            <a:ext cx="516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ra delfinului este pl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ă de colţi ascuţiţi şi nu-ş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ierde nici unul în timpul vieţi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lfinii dorm cu un ochi deschis ,îşi pot miş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hii în mod separat ,uitându-se cu unu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într-o direcţie şi cu celălalt în altă direcţie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over dir="l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23:21Z</dcterms:created>
  <dc:creator>Retestrak</dc:creator>
  <dc:description/>
  <dc:language>en-US</dc:language>
  <cp:lastModifiedBy>Retestrak</cp:lastModifiedBy>
  <dcterms:modified xsi:type="dcterms:W3CDTF">2007-03-29T12:52:35Z</dcterms:modified>
  <cp:revision>28</cp:revision>
  <dc:subject/>
  <dc:title>Slide 1</dc:title>
</cp:coreProperties>
</file>